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5774-784A-4322-90B3-A222C8A3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3A9-8F8E-4713-B57A-D1579CB4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7475-54A0-4B29-8702-E41D1A15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B2F-1B31-4881-B9B9-D2481CFC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3F5-3395-4004-9549-8CFDA8DF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88F-36A6-4769-9769-974DE3B6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AE3D-E665-4C22-A373-D8B757DF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8A96-7001-4E5C-9F3B-1AEF8D2A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B81-5F59-4B34-A68F-BAE67392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27E-BD91-4DFC-A52D-FBB4BD7F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7EA-16A6-403F-A96F-6169D906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8F23-0FE0-438E-BCE9-D93C3B51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C977-3559-42D1-B93D-2A5F33826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447560"/>
            <a:ext cx="8153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ummer School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tersessio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3505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District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16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3276720"/>
            <a:ext cx="362124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ncy.robinson @ lausd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323) 278-39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43200" y="3429000"/>
            <a:ext cx="360216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ar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July 6 -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July 6 -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July 6 – August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57800" y="2971800"/>
            <a:ext cx="30639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http://summer.lasud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ril 2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window cl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applications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l o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76920" y="3505320"/>
            <a:ext cx="385596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462744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495680" y="2286000"/>
            <a:ext cx="35053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:1 - Ele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:1 - Middle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:1 -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33:1 – 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otal of 4 classes per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53120" y="3200400"/>
            <a:ext cx="234936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IS Eligibility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SUMMER-ELA-R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SUMMER-ELD-R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45200" y="3200400"/>
            <a:ext cx="23353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&amp; High Sch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ian position eli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dial overtime eli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-hour Assistant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hours Tran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planni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flipH="1">
            <a:off x="5714640" y="2819520"/>
            <a:ext cx="28414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9680" y="3352680"/>
            <a:ext cx="434340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and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– 4630.0  Administ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– 4627.0  Ele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– 4628.0 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– 4629.0 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43400" y="3276720"/>
            <a:ext cx="37926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9:13:10Z</dcterms:created>
  <dc:creator>Nancy Robinson</dc:creator>
  <dc:description/>
  <dc:language>en-US</dc:language>
  <cp:lastModifiedBy>Nancy Robinson</cp:lastModifiedBy>
  <dcterms:modified xsi:type="dcterms:W3CDTF">2009-04-15T21:44:38Z</dcterms:modified>
  <cp:revision>5</cp:revision>
  <dc:subject/>
  <dc:title>Summer School  Intersession 2009</dc:title>
</cp:coreProperties>
</file>